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E2461-85A3-49F3-BDC7-D276D1000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max PID is p=2 GeV, lose x&gt;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924C50-31EF-4296-9130-1A12B4A5D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70EC-AF48-496D-A646-864435D1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2CE-1D94-4308-9FFA-B31AE3A1C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9288D-4B73-466E-AA65-F4BFB82F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9EDCB5-A2B3-4BFC-8829-6D5CB10E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076F9-C363-4C53-AD90-A009CD4F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C0765D-A84D-4834-8F59-B68A2D55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32CC47-85B0-479A-9E83-FEAAD36D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BE417-D539-401C-AE9C-FE6EA1D8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B7080-F740-4922-ADEA-8D53E7A5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78FCC-9C90-4529-8E9A-38698112B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E4713-29FC-4F85-AB74-75E9BEBB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0CBDC-E56F-4F2F-B0EC-BF6BA0CE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E5ED-0076-4F11-9684-9F448715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5A6D5-E209-4E14-AA26-40D84834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5F7F44-79FC-4F7A-A928-DFA20AC8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B0D20-19E4-4FB4-A154-513AC897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16949-C324-499D-A181-55FED825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A9AE9-F619-4C56-959C-161E2A35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12438-E2BF-4B75-88D4-67DEE5B7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37F22-6D94-4BC9-86F2-AE9C2988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11B34-1707-452C-A5B8-47C00BF3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156744-4216-497B-BFF2-EC5F18FF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F556C-4A1D-4188-9EC8-7088CA91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C4F2-C86A-4FD0-BF58-9CAD7707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064F41-D595-44CB-B030-69DF837A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24B72-B626-453F-B45C-9C50D877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D1DD5-8A00-4A28-9AB1-C51678A2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40F1C-3057-4A74-AB9F-E80C1301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40CF7-4114-48B7-B43A-490C1414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C7516-829E-46D0-A79A-4E027690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D44FA-D852-4447-B761-568A6D88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F0CD3-C896-402A-B453-977E52E6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4D041-A072-4E9D-9CD7-D0F0628C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E7ECD3-35D1-42F6-9031-BCF8FB96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CF1F-8FD9-4145-8AF7-0DDB3A54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D2AD0-9E9C-46DC-A2EC-69CBD998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A0AB7-9E1B-4042-BACE-F764CDEA1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8C9C5-4CAA-44E3-9059-ECF4D9C9F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2DAAF-CD47-46E8-9BD8-A10DFC90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193180-2E7C-4A12-9BFF-E41174DE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67FF69-F210-4891-AACC-8C25F622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E12DD-8D9E-4880-95D9-8F302D22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3F0403-8111-49F4-9244-A4F10951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59425-5640-44DD-AC47-0D89F1D0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CFADB-39D0-43E6-882F-05AC6D9A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D030-4673-4D96-BE08-EDACFE59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521AD-1D52-4BD2-BD3C-AE0BAAC5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C52E79-67D7-433C-86E3-1865A97B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D5AAD-0D7F-4A2F-BABB-929F5F25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C8E297-5F73-4B2A-AEBD-930B6CC2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CAEA9-C8CF-4351-870D-A5FF2F2B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0BA60F-8ACA-4FAF-8A27-7443C943B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80EE26-A598-4CAF-BB43-46E43096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64587C-0519-4608-832F-D9776DED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2DF11-A273-4F10-AC5F-86280A83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38364A-7BFD-4280-BCC5-6F4D486B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395B0-0173-450F-BF60-DD6A037B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A4E4C1-B3A0-4BAD-9204-FCBD3C8F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7F879-2693-433A-AC8B-9F5CE8C8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4FE3BC-AA4B-4C07-B239-B2D7826D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5F214-5A49-42C9-A82C-E52C8997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1BC5D-3B1A-4AE9-AD44-8C1F7C6B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4C2CB-5316-4AE2-93A3-1057C3F2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7B9699-BF9D-4CDC-A74A-56B1FC2B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6C33-ADE1-4897-A4DC-FCCE0391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0B27-AB12-45A1-8A12-7E7133FD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8F82-8C6A-4BBE-9E4C-ABC68149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BE74-9606-46FF-AFDC-469E49B2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299-B6C6-42FC-A395-C6839D1D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1756-DE13-45CB-ADA6-19328D8E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5002-EE61-4072-AC66-96CC8DD4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11B7-DAD2-4415-A60C-794F3E97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DD99-7EB7-4368-B60C-08CFBF8A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7FEE-4B84-443B-8905-F381440FB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C0269-136A-439E-BCA0-2F6BBDA3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8942C-6579-4739-91A0-867CA9BB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46CA8-047B-414C-B8B5-F782BCC7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643DB-2A3B-41AF-8301-B622FC99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23CCF-F45A-4634-A486-40546F08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D09-6FD9-4212-8665-2B5D5672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FAEE0-D207-4232-8DC9-1119C754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B2E9E-FB31-401B-98A4-06DED74D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52E28-20FB-4634-A487-1EEF8420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294B6-F176-4A7D-8D8B-90EC84AB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7F47C-054A-4E29-A027-88D49534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214B4-4E43-4EA3-BD1A-95193DCC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347DB-249B-4F20-B13F-ED85B32B8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3CD10-977A-4281-8883-C85CB1F74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FAAA5-E4D9-4F9D-967E-02AA7476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000C1-FE0A-401F-9812-05229BB6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06C-9DFD-48B8-95A4-611734D2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2AD8E-6FE4-4FBB-825A-879B715B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91A8D-8728-473C-B53F-E56A5296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05A59-DD06-465B-8041-26E9CA28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330FB-2E84-4BF8-B90C-5D50D2C1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B13C3-DB8A-430D-BF82-F63C3004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45BC4-9DFF-4D1E-A9AE-E8BDA925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C79DE-C60B-4AA9-A40F-C503ACA7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74232-805A-4681-AA89-4DD3550F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4E7CF-5EA5-40D8-939A-39686C334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249FE-42F7-42D1-A342-371EC932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8AD0-F49F-4C9F-B09F-55B5CA74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51C57-F87C-4636-93BB-935FFCC3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B7EA7-FA47-495E-8230-9D079293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1223F-F0AA-41C5-BF0A-82ECB5A2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28638-AC41-4E0C-8EFF-91FACCE5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195A9-8E8F-445C-8D0A-70F965F7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1FBE8-8627-40CE-AF85-7F15387A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47E91-BF6D-4DFF-A0D2-A2476AC7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B6A6E-B04B-4783-AE39-B12BF808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EC6A8-DB4B-4ED1-A7A2-71CBA672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D44AF-D714-4AA9-82A5-EA5F55AD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09C1-F996-477B-9225-E1E65D8AE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4F3CD-98DB-4213-B316-FC8F7207E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10DD5-5207-422C-AFB6-DDD0B751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C7004-1936-4D5A-8E77-4E842527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B8D78-9D57-45C8-B5E1-DBE25C63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D14D1-F810-4A5A-9122-45D6420F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C52DF-1C15-4581-9ACF-653F27187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442CE-4A0E-49B0-9896-23CE5D12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CD140-0040-4229-946E-4391D0F8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AC29C-3E1A-40C1-9215-BA7A6136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318EA-AC5D-46E5-8B14-E7830BBF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264D-513A-4449-A1AF-045E3C3F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A70E2-8B94-4D19-BDC0-475B0F29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DAF1C-A763-4F72-A0F2-242D7DBC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78DA2-4E73-4A4F-87EA-1FAD72FB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92310-D482-4EDF-AA3D-A272E6BE8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6DEC4-ED9C-4505-B83D-25FF5C59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C7B58-ADD6-4B4B-9E9F-9C594108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15FEB-E3A5-4974-BB76-16CBBD225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0B07A-E8DC-4DF7-93AB-7BDBF507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737FA-E82D-462C-B515-BB8C0E91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37DFC-7293-4F32-A5AC-815716DC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81EB-4C16-49B6-B99A-85434F90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E561C-8EFD-4DA6-9D76-B2AB5176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F448B-66A6-4F8E-B736-592F9C34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C1267-9337-4EDC-BA63-BD56DFA9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12DC1-A037-48FC-9F4D-56694D18A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A0EF9-B470-43DD-B241-1B13E6EA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E4792-FF18-4A41-B901-15A0BC46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D1E9C-7683-449D-A16F-AC3E416E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09477-A610-4E3C-BE0C-58B90337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7B3DF-9ABD-42D8-B6D4-C0C829D3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9E6C5-20E6-479F-9AAD-A57E18D8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5BF5-D491-4F48-AF84-468D6484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17280"/>
            <a:ext cx="8229600" cy="380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4D899-64B7-40D4-A478-58036350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D09DE-AB76-40A5-8003-BE2C9DD5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21CD9-0283-46B7-98E1-63A7EF6B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B5D42-086E-4FA7-9689-680F04AB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659040"/>
            <a:ext cx="822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11030-F79E-45F7-B24E-530FB266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96156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659040"/>
            <a:ext cx="40158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82924-8665-4E1D-942A-6EC80A29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96156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659040"/>
            <a:ext cx="2649600" cy="246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635AB-038D-4587-849C-17C1BAC1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6EE20-BC0A-4766-99C1-C818F0EB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CAA05-C69F-46E3-BA22-576DAEBC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3ADD0-2C97-49A7-B4AD-0C72C3F8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—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9B066-E90F-4C83-A536-B1977DEF8C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63ACF-AC27-4777-A0C7-E627028DE3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6052D-D042-4DA3-A2B6-F7C6B96D12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081919-D53A-4ECD-A5EF-8F4B79F048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7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8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CB4A45-937E-4D43-8DA4-118BE725D7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07800" y="6356520"/>
            <a:ext cx="3141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FE96C-4E1C-4F2D-888B-08644A6E63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B804E4-76F6-4097-8152-7F6B5ECE45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82B30B-146B-491E-8C03-461A756BEC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E7B8C-5721-4AB3-B482-6C45A1EE76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CD3C4-55D5-4425-9F7A-CAA851F4F4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EFE4B-4877-4F2F-9D9F-9C24DA9CD9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25BCA8-3235-4FD4-883A-F00716B454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0" y="6316560"/>
            <a:ext cx="9144000" cy="763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bf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6" descr="RBRC_logo.jpg"/>
          <p:cNvPicPr/>
          <p:nvPr/>
        </p:nvPicPr>
        <p:blipFill>
          <a:blip r:embed="rId2"/>
          <a:stretch/>
        </p:blipFill>
        <p:spPr>
          <a:xfrm>
            <a:off x="0" y="6222960"/>
            <a:ext cx="1816200" cy="63504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1/10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294912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ADDE5-23D1-4873-A656-BE8CEE347D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25ec35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PHENIX PID in the Central Barrel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eeds 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ieran Boyle (RBR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81EC24-1F05-4751-B21D-C715BF68F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Fixed Target 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Collid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 what momentums should we expect in the central arm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fixed target, maximum scattered electron or hadron energy is equal to the incoming electron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Collider,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 ≤ √s/2 and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≤ √s/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re, √s is in the partonic colli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3B977-180B-44CC-9B2C-57108856E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7" name="Picture 5" descr="kin.png"/>
          <p:cNvPicPr/>
          <p:nvPr/>
        </p:nvPicPr>
        <p:blipFill>
          <a:blip r:embed="rId1"/>
          <a:stretch/>
        </p:blipFill>
        <p:spPr>
          <a:xfrm>
            <a:off x="3530520" y="3517920"/>
            <a:ext cx="2057400" cy="604800"/>
          </a:xfrm>
          <a:prstGeom prst="rect">
            <a:avLst/>
          </a:prstGeom>
          <a:ln w="0">
            <a:noFill/>
          </a:ln>
        </p:spPr>
      </p:pic>
      <p:pic>
        <p:nvPicPr>
          <p:cNvPr id="658" name="Table 6" descr=""/>
          <p:cNvPicPr/>
          <p:nvPr/>
        </p:nvPicPr>
        <p:blipFill>
          <a:blip r:embed="rId2"/>
          <a:stretch/>
        </p:blipFill>
        <p:spPr>
          <a:xfrm>
            <a:off x="1481040" y="4175280"/>
            <a:ext cx="618192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Kinematic distribution: 5×10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E23F4-10B4-40FE-BCF5-2364DC9F3C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3" name="Picture 5" descr="5x100seelekin.png"/>
          <p:cNvPicPr/>
          <p:nvPr/>
        </p:nvPicPr>
        <p:blipFill>
          <a:blip r:embed="rId1"/>
          <a:stretch/>
        </p:blipFill>
        <p:spPr>
          <a:xfrm>
            <a:off x="276120" y="835200"/>
            <a:ext cx="8612280" cy="499428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pdist5x100.png"/>
          <p:cNvPicPr/>
          <p:nvPr/>
        </p:nvPicPr>
        <p:blipFill>
          <a:blip r:embed="rId2"/>
          <a:stretch/>
        </p:blipFill>
        <p:spPr>
          <a:xfrm>
            <a:off x="2085840" y="961920"/>
            <a:ext cx="4889520" cy="4891320"/>
          </a:xfrm>
          <a:prstGeom prst="rect">
            <a:avLst/>
          </a:prstGeom>
          <a:ln w="0">
            <a:noFill/>
          </a:ln>
        </p:spPr>
      </p:pic>
      <p:sp>
        <p:nvSpPr>
          <p:cNvPr id="665" name="TextBox 7"/>
          <p:cNvSpPr/>
          <p:nvPr/>
        </p:nvSpPr>
        <p:spPr>
          <a:xfrm>
            <a:off x="7881120" y="56847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. See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2" descr="xQ2_ple4.png"/>
          <p:cNvPicPr/>
          <p:nvPr/>
        </p:nvPicPr>
        <p:blipFill>
          <a:blip r:embed="rId1"/>
          <a:stretch/>
        </p:blipFill>
        <p:spPr>
          <a:xfrm>
            <a:off x="1073160" y="2417760"/>
            <a:ext cx="2554200" cy="21193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Kinematic distribu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457200" y="4537080"/>
            <a:ext cx="82137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 momentum increases, peak of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vs x distribution in central arm moves to larger x and larger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coverage is not greatly extended due to sample size at lower 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Footer Placeholder 3"/>
          <p:cNvSpPr/>
          <p:nvPr/>
        </p:nvSpPr>
        <p:spPr>
          <a:xfrm>
            <a:off x="3376440" y="6356520"/>
            <a:ext cx="2643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lide Number Placeholder 4"/>
          <p:cNvSpPr/>
          <p:nvPr/>
        </p:nvSpPr>
        <p:spPr>
          <a:xfrm>
            <a:off x="8394840" y="57578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70DC0-0584-4A66-A072-18A621445D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Group 11"/>
          <p:cNvGrpSpPr/>
          <p:nvPr/>
        </p:nvGrpSpPr>
        <p:grpSpPr>
          <a:xfrm>
            <a:off x="3621240" y="2408400"/>
            <a:ext cx="5049360" cy="2128680"/>
            <a:chOff x="3621240" y="2408400"/>
            <a:chExt cx="5049360" cy="2128680"/>
          </a:xfrm>
        </p:grpSpPr>
        <p:pic>
          <p:nvPicPr>
            <p:cNvPr id="672" name="Picture 13" descr="xQ2_4leple7.png"/>
            <p:cNvPicPr/>
            <p:nvPr/>
          </p:nvPicPr>
          <p:blipFill>
            <a:blip r:embed="rId2"/>
            <a:stretch/>
          </p:blipFill>
          <p:spPr>
            <a:xfrm>
              <a:off x="3621240" y="2417040"/>
              <a:ext cx="2524680" cy="212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14" descr="xQ2_7leple10.png"/>
            <p:cNvPicPr/>
            <p:nvPr/>
          </p:nvPicPr>
          <p:blipFill>
            <a:blip r:embed="rId3"/>
            <a:stretch/>
          </p:blipFill>
          <p:spPr>
            <a:xfrm>
              <a:off x="6145920" y="2408400"/>
              <a:ext cx="2524680" cy="212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4" name="TextBox 15"/>
          <p:cNvSpPr/>
          <p:nvPr/>
        </p:nvSpPr>
        <p:spPr>
          <a:xfrm>
            <a:off x="1441440" y="2781360"/>
            <a:ext cx="75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&lt;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6"/>
          <p:cNvSpPr/>
          <p:nvPr/>
        </p:nvSpPr>
        <p:spPr>
          <a:xfrm>
            <a:off x="4054320" y="2781360"/>
            <a:ext cx="9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&lt;p&lt;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7"/>
          <p:cNvSpPr/>
          <p:nvPr/>
        </p:nvSpPr>
        <p:spPr>
          <a:xfrm>
            <a:off x="6615000" y="27813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&lt;p&lt;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7" name="Group 18"/>
          <p:cNvGrpSpPr/>
          <p:nvPr/>
        </p:nvGrpSpPr>
        <p:grpSpPr>
          <a:xfrm>
            <a:off x="1106640" y="923760"/>
            <a:ext cx="7670520" cy="1670040"/>
            <a:chOff x="1106640" y="923760"/>
            <a:chExt cx="7670520" cy="1670040"/>
          </a:xfrm>
        </p:grpSpPr>
        <p:pic>
          <p:nvPicPr>
            <p:cNvPr id="678" name="Picture 7" descr="eta_7leple10.png"/>
            <p:cNvPicPr/>
            <p:nvPr/>
          </p:nvPicPr>
          <p:blipFill>
            <a:blip r:embed="rId4"/>
            <a:stretch/>
          </p:blipFill>
          <p:spPr>
            <a:xfrm>
              <a:off x="6221520" y="923760"/>
              <a:ext cx="2555640" cy="167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9" name="Picture 6" descr="eta_4leple7.png"/>
            <p:cNvPicPr/>
            <p:nvPr/>
          </p:nvPicPr>
          <p:blipFill>
            <a:blip r:embed="rId5"/>
            <a:stretch/>
          </p:blipFill>
          <p:spPr>
            <a:xfrm>
              <a:off x="3662280" y="923760"/>
              <a:ext cx="2555640" cy="167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5" descr="eta_ple4.png"/>
            <p:cNvPicPr/>
            <p:nvPr/>
          </p:nvPicPr>
          <p:blipFill>
            <a:blip r:embed="rId6"/>
            <a:stretch/>
          </p:blipFill>
          <p:spPr>
            <a:xfrm>
              <a:off x="1106640" y="923760"/>
              <a:ext cx="255564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TextBox 8"/>
            <p:cNvSpPr/>
            <p:nvPr/>
          </p:nvSpPr>
          <p:spPr>
            <a:xfrm>
              <a:off x="1622520" y="125280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&lt;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TextBox 9"/>
            <p:cNvSpPr/>
            <p:nvPr/>
          </p:nvSpPr>
          <p:spPr>
            <a:xfrm>
              <a:off x="4286520" y="1252800"/>
              <a:ext cx="76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4&lt;p&lt;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TextBox 10"/>
            <p:cNvSpPr/>
            <p:nvPr/>
          </p:nvSpPr>
          <p:spPr>
            <a:xfrm>
              <a:off x="6672240" y="125280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7&lt;p&lt;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4" name="TextBox 19"/>
          <p:cNvSpPr/>
          <p:nvPr/>
        </p:nvSpPr>
        <p:spPr>
          <a:xfrm>
            <a:off x="301320" y="3335400"/>
            <a:ext cx="8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vs. 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20"/>
          <p:cNvSpPr/>
          <p:nvPr/>
        </p:nvSpPr>
        <p:spPr>
          <a:xfrm>
            <a:off x="460080" y="15811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Box 21"/>
          <p:cNvSpPr/>
          <p:nvPr/>
        </p:nvSpPr>
        <p:spPr>
          <a:xfrm>
            <a:off x="406800" y="903240"/>
            <a:ext cx="7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×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mpact of p&lt;4 Limit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961560"/>
            <a:ext cx="8229600" cy="12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 = P•p/P•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cut on 0.85&gt;z&gt;0.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se some phase space at high x and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f no PID above 4 G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62D69-B2EF-493C-B083-BED535863F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1" name="Picture 5" descr="x_Q2_z_space_5_100.png"/>
          <p:cNvPicPr/>
          <p:nvPr/>
        </p:nvPicPr>
        <p:blipFill>
          <a:blip r:embed="rId1"/>
          <a:stretch/>
        </p:blipFill>
        <p:spPr>
          <a:xfrm>
            <a:off x="725400" y="2095560"/>
            <a:ext cx="3840120" cy="365436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6" descr="x_Q2_z_space_10_100.png"/>
          <p:cNvPicPr/>
          <p:nvPr/>
        </p:nvPicPr>
        <p:blipFill>
          <a:blip r:embed="rId2"/>
          <a:stretch/>
        </p:blipFill>
        <p:spPr>
          <a:xfrm>
            <a:off x="4632480" y="2095560"/>
            <a:ext cx="3841560" cy="3654360"/>
          </a:xfrm>
          <a:prstGeom prst="rect">
            <a:avLst/>
          </a:prstGeom>
          <a:ln w="0">
            <a:noFill/>
          </a:ln>
        </p:spPr>
      </p:pic>
      <p:sp>
        <p:nvSpPr>
          <p:cNvPr id="693" name="TextBox 7"/>
          <p:cNvSpPr/>
          <p:nvPr/>
        </p:nvSpPr>
        <p:spPr>
          <a:xfrm>
            <a:off x="1262160" y="3678120"/>
            <a:ext cx="1301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imum accessible 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9"/>
          <p:cNvSpPr/>
          <p:nvPr/>
        </p:nvSpPr>
        <p:spPr>
          <a:xfrm>
            <a:off x="725400" y="2025720"/>
            <a:ext cx="13003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×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Box 10"/>
          <p:cNvSpPr/>
          <p:nvPr/>
        </p:nvSpPr>
        <p:spPr>
          <a:xfrm>
            <a:off x="4656240" y="2025720"/>
            <a:ext cx="1363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×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Box 12"/>
          <p:cNvSpPr/>
          <p:nvPr/>
        </p:nvSpPr>
        <p:spPr>
          <a:xfrm>
            <a:off x="6411960" y="26337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&lt;4 G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13"/>
          <p:cNvSpPr/>
          <p:nvPr/>
        </p:nvSpPr>
        <p:spPr>
          <a:xfrm>
            <a:off x="2498760" y="278604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&lt;4 G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16"/>
          <p:cNvSpPr/>
          <p:nvPr/>
        </p:nvSpPr>
        <p:spPr>
          <a:xfrm>
            <a:off x="1146240" y="5664240"/>
            <a:ext cx="683892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p to 4 GeV is reasonable range for P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25ec35"/>
              </a:gs>
            </a:gsLst>
            <a:lin ang="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ID DETECTOR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01" name="Footer Placeholder 3"/>
          <p:cNvSpPr/>
          <p:nvPr/>
        </p:nvSpPr>
        <p:spPr>
          <a:xfrm>
            <a:off x="3008160" y="6356520"/>
            <a:ext cx="314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E0D456-7354-480B-BC9D-AD8B2708DC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ID needs and opt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nt PID in central region as it extends x and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reach, important for both TMDs and helicity dis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D is necessary to actually get access to quark info, which we want for both helicity sea quark separation and TM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like to have pi-K separation out to 4-5GeV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 posibilit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ximity Focused RICH (ALI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C (BAB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272D9-A491-427B-9387-A2EAFA8098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Proximity Focused RICH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420480" y="1163160"/>
            <a:ext cx="477036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a is to have a thin radiator, say liquid C6F14, followed by expansion volu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nking to use HBD like readout to limit readout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hings give pi-K separ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x of refr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ansion dis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dering possibilities of other radiators, but cerenkov light needs to be ~100-200 nm for CsI read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ions ongoing for how to push this PID to higher momentu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BDD86-716A-47F9-A73F-E3F61C72A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4" descr="alice_hmpid_principle.gif"/>
          <p:cNvPicPr/>
          <p:nvPr/>
        </p:nvPicPr>
        <p:blipFill>
          <a:blip r:embed="rId1"/>
          <a:stretch/>
        </p:blipFill>
        <p:spPr>
          <a:xfrm>
            <a:off x="5811840" y="1163520"/>
            <a:ext cx="2874960" cy="20973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5" descr="ALICEProxRichPID.png"/>
          <p:cNvPicPr/>
          <p:nvPr/>
        </p:nvPicPr>
        <p:blipFill>
          <a:blip r:embed="rId2"/>
          <a:stretch/>
        </p:blipFill>
        <p:spPr>
          <a:xfrm>
            <a:off x="5443560" y="3730680"/>
            <a:ext cx="3243240" cy="21654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6" descr="STARHMPID.png"/>
          <p:cNvPicPr/>
          <p:nvPr/>
        </p:nvPicPr>
        <p:blipFill>
          <a:blip r:embed="rId3"/>
          <a:stretch/>
        </p:blipFill>
        <p:spPr>
          <a:xfrm>
            <a:off x="5559480" y="4194000"/>
            <a:ext cx="3127320" cy="1584360"/>
          </a:xfrm>
          <a:prstGeom prst="rect">
            <a:avLst/>
          </a:prstGeom>
          <a:ln w="0">
            <a:noFill/>
          </a:ln>
        </p:spPr>
      </p:pic>
      <p:sp>
        <p:nvSpPr>
          <p:cNvPr id="713" name="Footer Placeholder 7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IRC:  Idea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56840" y="958320"/>
            <a:ext cx="413388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Thin Quartz radiator.  Signal sent to larg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read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lly, detector is ~10cm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erenkov light totally internally reflected in z dir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ad out at end of b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ring size on readout, along with time of flight of photons to get P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9C574-4B81-44B0-8916-B0D25A4B3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7" name="Picture 8" descr="belletop.png"/>
          <p:cNvPicPr/>
          <p:nvPr/>
        </p:nvPicPr>
        <p:blipFill>
          <a:blip r:embed="rId1"/>
          <a:stretch/>
        </p:blipFill>
        <p:spPr>
          <a:xfrm>
            <a:off x="5372280" y="1193760"/>
            <a:ext cx="3305160" cy="1227240"/>
          </a:xfrm>
          <a:prstGeom prst="rect">
            <a:avLst/>
          </a:prstGeom>
          <a:ln w="0">
            <a:noFill/>
          </a:ln>
        </p:spPr>
      </p:pic>
      <p:cxnSp>
        <p:nvCxnSpPr>
          <p:cNvPr id="718" name="Straight Arrow Connector 16"/>
          <p:cNvCxnSpPr/>
          <p:nvPr/>
        </p:nvCxnSpPr>
        <p:spPr>
          <a:xfrm flipV="1">
            <a:off x="5033520" y="2420280"/>
            <a:ext cx="330588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19" name="TextBox 19"/>
          <p:cNvSpPr/>
          <p:nvPr/>
        </p:nvSpPr>
        <p:spPr>
          <a:xfrm>
            <a:off x="8065440" y="2421000"/>
            <a:ext cx="2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0" name="Straight Arrow Connector 20"/>
          <p:cNvCxnSpPr/>
          <p:nvPr/>
        </p:nvCxnSpPr>
        <p:spPr>
          <a:xfrm flipV="1">
            <a:off x="5043240" y="1193040"/>
            <a:ext cx="1080" cy="122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21" name="TextBox 21"/>
          <p:cNvSpPr/>
          <p:nvPr/>
        </p:nvSpPr>
        <p:spPr>
          <a:xfrm>
            <a:off x="5125320" y="109692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2" name="Picture 24" descr="DIRCbabarPiccrosssec.png"/>
          <p:cNvPicPr/>
          <p:nvPr/>
        </p:nvPicPr>
        <p:blipFill>
          <a:blip r:embed="rId2"/>
          <a:stretch/>
        </p:blipFill>
        <p:spPr>
          <a:xfrm>
            <a:off x="4394160" y="2987640"/>
            <a:ext cx="4318200" cy="3125880"/>
          </a:xfrm>
          <a:prstGeom prst="rect">
            <a:avLst/>
          </a:prstGeom>
          <a:ln w="0">
            <a:noFill/>
          </a:ln>
        </p:spPr>
      </p:pic>
      <p:sp>
        <p:nvSpPr>
          <p:cNvPr id="723" name="TextBox 25"/>
          <p:cNvSpPr/>
          <p:nvPr/>
        </p:nvSpPr>
        <p:spPr>
          <a:xfrm>
            <a:off x="5522400" y="601020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adial space is sm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4" name="Straight Arrow Connector 26"/>
          <p:cNvCxnSpPr/>
          <p:nvPr/>
        </p:nvCxnSpPr>
        <p:spPr>
          <a:xfrm flipV="1">
            <a:off x="8677080" y="3201120"/>
            <a:ext cx="46440" cy="2899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25" name="TextBox 27"/>
          <p:cNvSpPr/>
          <p:nvPr/>
        </p:nvSpPr>
        <p:spPr>
          <a:xfrm>
            <a:off x="8811720" y="597708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Footer Placeholder 29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IRC:  Readout Issu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456840" y="958320"/>
            <a:ext cx="413388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Thin Quartz radiator.  Signal sent to larg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read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lly, detector is ~10cm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BABAR, readout was huge fan out of PMTs at e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n’t work in e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. Woody investigating smaller readout with SiP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DF080A-0549-4395-87E1-232173BF15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0" name="Picture 9" descr="DIRCbabarPiccrosssec.png"/>
          <p:cNvPicPr/>
          <p:nvPr/>
        </p:nvPicPr>
        <p:blipFill>
          <a:blip r:embed="rId1"/>
          <a:stretch/>
        </p:blipFill>
        <p:spPr>
          <a:xfrm>
            <a:off x="4394160" y="2987640"/>
            <a:ext cx="4318200" cy="3125880"/>
          </a:xfrm>
          <a:prstGeom prst="rect">
            <a:avLst/>
          </a:prstGeom>
          <a:ln w="0">
            <a:noFill/>
          </a:ln>
        </p:spPr>
      </p:pic>
      <p:sp>
        <p:nvSpPr>
          <p:cNvPr id="731" name="TextBox 10"/>
          <p:cNvSpPr/>
          <p:nvPr/>
        </p:nvSpPr>
        <p:spPr>
          <a:xfrm>
            <a:off x="5522400" y="6010200"/>
            <a:ext cx="20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Radial space is sm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2" name="Straight Arrow Connector 13"/>
          <p:cNvCxnSpPr/>
          <p:nvPr/>
        </p:nvCxnSpPr>
        <p:spPr>
          <a:xfrm flipV="1">
            <a:off x="8677080" y="3201120"/>
            <a:ext cx="46440" cy="28998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33" name="TextBox 14"/>
          <p:cNvSpPr/>
          <p:nvPr/>
        </p:nvSpPr>
        <p:spPr>
          <a:xfrm>
            <a:off x="8811720" y="597708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4" name="Picture 15" descr="DIRCbabarPic.png"/>
          <p:cNvPicPr/>
          <p:nvPr/>
        </p:nvPicPr>
        <p:blipFill>
          <a:blip r:embed="rId2"/>
          <a:stretch/>
        </p:blipFill>
        <p:spPr>
          <a:xfrm>
            <a:off x="4289400" y="958680"/>
            <a:ext cx="2455920" cy="178128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7" descr="DIRCbabarPic3d.png"/>
          <p:cNvPicPr/>
          <p:nvPr/>
        </p:nvPicPr>
        <p:blipFill>
          <a:blip r:embed="rId3"/>
          <a:stretch/>
        </p:blipFill>
        <p:spPr>
          <a:xfrm>
            <a:off x="6745320" y="958680"/>
            <a:ext cx="2063880" cy="1865520"/>
          </a:xfrm>
          <a:prstGeom prst="rect">
            <a:avLst/>
          </a:prstGeom>
          <a:ln w="0">
            <a:noFill/>
          </a:ln>
        </p:spPr>
      </p:pic>
      <p:sp>
        <p:nvSpPr>
          <p:cNvPr id="736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DIRC:  PID ran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BAR focused on PID in 1-5 GeV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fficiency starts dropping at 2.5 G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great above 3.5 G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be able to extend with fine resolution reado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Picture 3" descr="DIRCbabarPicPID.png"/>
          <p:cNvPicPr/>
          <p:nvPr/>
        </p:nvPicPr>
        <p:blipFill>
          <a:blip r:embed="rId1"/>
          <a:stretch/>
        </p:blipFill>
        <p:spPr>
          <a:xfrm>
            <a:off x="204840" y="3405240"/>
            <a:ext cx="2546280" cy="2475000"/>
          </a:xfrm>
          <a:prstGeom prst="rect">
            <a:avLst/>
          </a:prstGeom>
          <a:ln w="0">
            <a:noFill/>
          </a:ln>
        </p:spPr>
      </p:pic>
      <p:pic>
        <p:nvPicPr>
          <p:cNvPr id="740" name="Picture 4" descr="DIRCbabarPicPID2.png"/>
          <p:cNvPicPr/>
          <p:nvPr/>
        </p:nvPicPr>
        <p:blipFill>
          <a:blip r:embed="rId2"/>
          <a:stretch/>
        </p:blipFill>
        <p:spPr>
          <a:xfrm>
            <a:off x="2751120" y="3405240"/>
            <a:ext cx="2892600" cy="2951280"/>
          </a:xfrm>
          <a:prstGeom prst="rect">
            <a:avLst/>
          </a:prstGeom>
          <a:ln w="0">
            <a:noFill/>
          </a:ln>
        </p:spPr>
      </p:pic>
      <p:sp>
        <p:nvSpPr>
          <p:cNvPr id="74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0BEE3-5599-48C1-920B-4432DF3A1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2" name="Picture 11" descr="DIRCbabarPicPID3.png"/>
          <p:cNvPicPr/>
          <p:nvPr/>
        </p:nvPicPr>
        <p:blipFill>
          <a:blip r:embed="rId3"/>
          <a:stretch/>
        </p:blipFill>
        <p:spPr>
          <a:xfrm>
            <a:off x="5776920" y="3086280"/>
            <a:ext cx="2911320" cy="3270240"/>
          </a:xfrm>
          <a:prstGeom prst="rect">
            <a:avLst/>
          </a:prstGeom>
          <a:ln w="0">
            <a:noFill/>
          </a:ln>
        </p:spPr>
      </p:pic>
      <p:sp>
        <p:nvSpPr>
          <p:cNvPr id="743" name="Footer Placeholder 7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hysics in e+p with identified final state hadr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avor separated helicity structure of the sea quar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lavor separated Transverse Momentum Dependent Distribu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Kinematic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+p in gene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ith a 5-10 GeV electron beam (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= 50-250 GeV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ID options in the central barrel reg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on pi-K-p sepa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RC, RICH, Proximity Focused RI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inematic coverage, Spatial extent (for barrel radius ques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7F31FF-0AEE-4E3C-8433-512477220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5"/>
          <p:cNvSpPr/>
          <p:nvPr/>
        </p:nvSpPr>
        <p:spPr>
          <a:xfrm>
            <a:off x="9428040" y="16891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6"/>
          <p:cNvSpPr/>
          <p:nvPr/>
        </p:nvSpPr>
        <p:spPr>
          <a:xfrm>
            <a:off x="9454680" y="3390840"/>
            <a:ext cx="7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7"/>
          <p:cNvSpPr/>
          <p:nvPr/>
        </p:nvSpPr>
        <p:spPr>
          <a:xfrm>
            <a:off x="9501840" y="49752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25ec35"/>
              </a:gs>
            </a:gsLst>
            <a:lin ang="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O, WHAT’S THE RADIU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746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3D3848-11FA-4D1C-99E1-E73B16B97C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 the Onion Diagram:  Try 0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5732640" y="961560"/>
            <a:ext cx="295416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Assumed magnet at 1.2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ck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~3 inner layers also for heavy flavor physic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PC for pattern recogni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rip at 60cm for good phi poi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ID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30-40cm in 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pected to be proximity RICH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MCAL and preshower inside magne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~20 c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A975C-EA6E-4C37-B1B8-044CF91EF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2" name="Picture 5" descr="ephenixmockup.png"/>
          <p:cNvPicPr/>
          <p:nvPr/>
        </p:nvPicPr>
        <p:blipFill>
          <a:blip r:embed="rId1"/>
          <a:stretch/>
        </p:blipFill>
        <p:spPr>
          <a:xfrm>
            <a:off x="328680" y="1695600"/>
            <a:ext cx="5403960" cy="39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me modifications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3425760" y="961560"/>
            <a:ext cx="52610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med magnet at 1.2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~3 inner layers also for heavy flavor physic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bfbfbf"/>
                </a:solidFill>
                <a:latin typeface="Calibri"/>
              </a:rPr>
              <a:t>TPC for pattern recogni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t clear needed in e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e46c0a"/>
                </a:solidFill>
                <a:latin typeface="Calibri"/>
              </a:rPr>
              <a:t>Strip at 60cm for good phi point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eed to study if layer can be at smaller radius, folding in Sasha’s and Tom’s stud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I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Calibri"/>
              </a:rPr>
              <a:t>30-40cm in r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a6a6a6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Calibri"/>
              </a:rPr>
              <a:t>Expected to be proximity RIC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Lucida Grande"/>
              <a:buChar char="➜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RC: 10 c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MCAL and preshower inside magne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bfbfb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bfbfbf"/>
                </a:solidFill>
                <a:latin typeface="Calibri"/>
              </a:rPr>
              <a:t>~20 cm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Lucida Grande"/>
              <a:buChar char="➜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10cm from C. Woody slid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Lucida Grande"/>
              <a:buChar char="➜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tudy ongoing to see effect on resolution of magnet inside EMCal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➜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ave 30-40cm, so 120cm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0c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89FB9-69CD-458E-AAAF-3A39883F2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7" name="Picture 5" descr="ephenixmockup.png"/>
          <p:cNvPicPr/>
          <p:nvPr/>
        </p:nvPicPr>
        <p:blipFill>
          <a:blip r:embed="rId1"/>
          <a:stretch/>
        </p:blipFill>
        <p:spPr>
          <a:xfrm>
            <a:off x="142920" y="1066680"/>
            <a:ext cx="3468600" cy="2540160"/>
          </a:xfrm>
          <a:prstGeom prst="rect">
            <a:avLst/>
          </a:prstGeom>
          <a:ln w="0">
            <a:noFill/>
          </a:ln>
        </p:spPr>
      </p:pic>
      <p:sp>
        <p:nvSpPr>
          <p:cNvPr id="758" name="Oval 6"/>
          <p:cNvSpPr/>
          <p:nvPr/>
        </p:nvSpPr>
        <p:spPr>
          <a:xfrm>
            <a:off x="1025640" y="4078440"/>
            <a:ext cx="1774800" cy="1787400"/>
          </a:xfrm>
          <a:prstGeom prst="ellips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9" name="Straight Arrow Connector 8"/>
          <p:cNvCxnSpPr>
            <a:endCxn id="758" idx="6"/>
          </p:cNvCxnSpPr>
          <p:nvPr/>
        </p:nvCxnSpPr>
        <p:spPr>
          <a:xfrm>
            <a:off x="1911240" y="4971600"/>
            <a:ext cx="88992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60" name="TextBox 11"/>
          <p:cNvSpPr/>
          <p:nvPr/>
        </p:nvSpPr>
        <p:spPr>
          <a:xfrm>
            <a:off x="1821960" y="45291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 the Onion Diagram:  Try 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Footer Placeholder 3"/>
          <p:cNvSpPr/>
          <p:nvPr/>
        </p:nvSpPr>
        <p:spPr>
          <a:xfrm>
            <a:off x="8053560" y="67215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69CC0-A90C-4AA4-A823-0FC3C9D0AE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Oval 39"/>
          <p:cNvSpPr/>
          <p:nvPr/>
        </p:nvSpPr>
        <p:spPr>
          <a:xfrm>
            <a:off x="2104920" y="1344600"/>
            <a:ext cx="4656240" cy="4654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Oval 41"/>
          <p:cNvSpPr/>
          <p:nvPr/>
        </p:nvSpPr>
        <p:spPr>
          <a:xfrm>
            <a:off x="2525760" y="1751040"/>
            <a:ext cx="3814560" cy="381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Oval 42"/>
          <p:cNvSpPr/>
          <p:nvPr/>
        </p:nvSpPr>
        <p:spPr>
          <a:xfrm>
            <a:off x="2936880" y="2190600"/>
            <a:ext cx="2963880" cy="2963880"/>
          </a:xfrm>
          <a:prstGeom prst="ellipse">
            <a:avLst/>
          </a:prstGeom>
          <a:solidFill>
            <a:srgbClr val="8eb4e3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Dodecagon 43"/>
          <p:cNvSpPr/>
          <p:nvPr/>
        </p:nvSpPr>
        <p:spPr>
          <a:xfrm rot="20688000">
            <a:off x="3325320" y="2550600"/>
            <a:ext cx="2190960" cy="2233800"/>
          </a:xfrm>
          <a:custGeom>
            <a:avLst/>
            <a:gdLst/>
            <a:ahLst/>
            <a:rect l="l" t="t" r="r" b="b"/>
            <a:pathLst>
              <a:path w="2190598" h="2233706">
                <a:moveTo>
                  <a:pt x="0" y="817578"/>
                </a:moveTo>
                <a:lnTo>
                  <a:pt x="293500" y="299275"/>
                </a:lnTo>
                <a:lnTo>
                  <a:pt x="801799" y="0"/>
                </a:lnTo>
                <a:lnTo>
                  <a:pt x="1388799" y="0"/>
                </a:lnTo>
                <a:lnTo>
                  <a:pt x="1897098" y="299275"/>
                </a:lnTo>
                <a:lnTo>
                  <a:pt x="2190598" y="817578"/>
                </a:lnTo>
                <a:lnTo>
                  <a:pt x="2190598" y="1416128"/>
                </a:lnTo>
                <a:lnTo>
                  <a:pt x="1897098" y="1934431"/>
                </a:lnTo>
                <a:lnTo>
                  <a:pt x="1388799" y="2233706"/>
                </a:lnTo>
                <a:lnTo>
                  <a:pt x="801799" y="2233706"/>
                </a:lnTo>
                <a:lnTo>
                  <a:pt x="293500" y="1934431"/>
                </a:lnTo>
                <a:lnTo>
                  <a:pt x="0" y="1416128"/>
                </a:lnTo>
                <a:lnTo>
                  <a:pt x="0" y="81757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Dodecagon 48"/>
          <p:cNvSpPr/>
          <p:nvPr/>
        </p:nvSpPr>
        <p:spPr>
          <a:xfrm>
            <a:off x="4152960" y="3397320"/>
            <a:ext cx="538200" cy="538200"/>
          </a:xfrm>
          <a:custGeom>
            <a:avLst/>
            <a:gdLst/>
            <a:ahLst/>
            <a:rect l="l" t="t" r="r" b="b"/>
            <a:pathLst>
              <a:path w="536919" h="536879">
                <a:moveTo>
                  <a:pt x="0" y="196508"/>
                </a:moveTo>
                <a:lnTo>
                  <a:pt x="71937" y="71932"/>
                </a:lnTo>
                <a:lnTo>
                  <a:pt x="196522" y="0"/>
                </a:lnTo>
                <a:lnTo>
                  <a:pt x="340397" y="0"/>
                </a:lnTo>
                <a:lnTo>
                  <a:pt x="464982" y="71932"/>
                </a:lnTo>
                <a:lnTo>
                  <a:pt x="536919" y="196508"/>
                </a:lnTo>
                <a:lnTo>
                  <a:pt x="536919" y="340371"/>
                </a:lnTo>
                <a:lnTo>
                  <a:pt x="464982" y="464947"/>
                </a:lnTo>
                <a:lnTo>
                  <a:pt x="340397" y="536879"/>
                </a:lnTo>
                <a:lnTo>
                  <a:pt x="196522" y="536879"/>
                </a:lnTo>
                <a:lnTo>
                  <a:pt x="71937" y="464947"/>
                </a:lnTo>
                <a:lnTo>
                  <a:pt x="0" y="340371"/>
                </a:lnTo>
                <a:lnTo>
                  <a:pt x="0" y="196508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Dodecagon 50"/>
          <p:cNvSpPr/>
          <p:nvPr/>
        </p:nvSpPr>
        <p:spPr>
          <a:xfrm>
            <a:off x="4246560" y="3489480"/>
            <a:ext cx="353880" cy="353880"/>
          </a:xfrm>
          <a:custGeom>
            <a:avLst/>
            <a:gdLst/>
            <a:ahLst/>
            <a:rect l="l" t="t" r="r" b="b"/>
            <a:pathLst>
              <a:path w="354367" h="354340">
                <a:moveTo>
                  <a:pt x="0" y="129695"/>
                </a:moveTo>
                <a:lnTo>
                  <a:pt x="47479" y="47475"/>
                </a:lnTo>
                <a:lnTo>
                  <a:pt x="129705" y="0"/>
                </a:lnTo>
                <a:lnTo>
                  <a:pt x="224662" y="0"/>
                </a:lnTo>
                <a:lnTo>
                  <a:pt x="306888" y="47475"/>
                </a:lnTo>
                <a:lnTo>
                  <a:pt x="354367" y="129695"/>
                </a:lnTo>
                <a:lnTo>
                  <a:pt x="354367" y="224645"/>
                </a:lnTo>
                <a:lnTo>
                  <a:pt x="306888" y="306865"/>
                </a:lnTo>
                <a:lnTo>
                  <a:pt x="224662" y="354340"/>
                </a:lnTo>
                <a:lnTo>
                  <a:pt x="129705" y="354340"/>
                </a:lnTo>
                <a:lnTo>
                  <a:pt x="47479" y="306865"/>
                </a:lnTo>
                <a:lnTo>
                  <a:pt x="0" y="224645"/>
                </a:lnTo>
                <a:lnTo>
                  <a:pt x="0" y="129695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Dodecagon 51"/>
          <p:cNvSpPr/>
          <p:nvPr/>
        </p:nvSpPr>
        <p:spPr>
          <a:xfrm>
            <a:off x="4330800" y="3576600"/>
            <a:ext cx="177840" cy="176400"/>
          </a:xfrm>
          <a:custGeom>
            <a:avLst/>
            <a:gdLst/>
            <a:ahLst/>
            <a:rect l="l" t="t" r="r" b="b"/>
            <a:pathLst>
              <a:path w="177180" h="177170">
                <a:moveTo>
                  <a:pt x="0" y="64848"/>
                </a:moveTo>
                <a:lnTo>
                  <a:pt x="23739" y="23737"/>
                </a:lnTo>
                <a:lnTo>
                  <a:pt x="64851" y="0"/>
                </a:lnTo>
                <a:lnTo>
                  <a:pt x="112329" y="0"/>
                </a:lnTo>
                <a:lnTo>
                  <a:pt x="153441" y="23737"/>
                </a:lnTo>
                <a:lnTo>
                  <a:pt x="177180" y="64848"/>
                </a:lnTo>
                <a:lnTo>
                  <a:pt x="177180" y="112322"/>
                </a:lnTo>
                <a:lnTo>
                  <a:pt x="153441" y="153433"/>
                </a:lnTo>
                <a:lnTo>
                  <a:pt x="112329" y="177170"/>
                </a:lnTo>
                <a:lnTo>
                  <a:pt x="64851" y="177170"/>
                </a:lnTo>
                <a:lnTo>
                  <a:pt x="23739" y="153433"/>
                </a:lnTo>
                <a:lnTo>
                  <a:pt x="0" y="112322"/>
                </a:lnTo>
                <a:lnTo>
                  <a:pt x="0" y="64848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Box 53"/>
          <p:cNvSpPr/>
          <p:nvPr/>
        </p:nvSpPr>
        <p:spPr>
          <a:xfrm>
            <a:off x="7514280" y="12304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 [cm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Straight Connector 55"/>
          <p:cNvSpPr/>
          <p:nvPr/>
        </p:nvSpPr>
        <p:spPr>
          <a:xfrm flipH="1">
            <a:off x="4431960" y="3672000"/>
            <a:ext cx="336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traight Connector 59"/>
          <p:cNvSpPr/>
          <p:nvPr/>
        </p:nvSpPr>
        <p:spPr>
          <a:xfrm flipH="1">
            <a:off x="4431960" y="3392640"/>
            <a:ext cx="336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Straight Connector 60"/>
          <p:cNvSpPr/>
          <p:nvPr/>
        </p:nvSpPr>
        <p:spPr>
          <a:xfrm flipH="1">
            <a:off x="4431960" y="2492280"/>
            <a:ext cx="336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Straight Connector 61"/>
          <p:cNvSpPr/>
          <p:nvPr/>
        </p:nvSpPr>
        <p:spPr>
          <a:xfrm flipH="1">
            <a:off x="4431960" y="2212920"/>
            <a:ext cx="336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traight Connector 62"/>
          <p:cNvSpPr/>
          <p:nvPr/>
        </p:nvSpPr>
        <p:spPr>
          <a:xfrm flipH="1">
            <a:off x="4446360" y="1736640"/>
            <a:ext cx="336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63"/>
          <p:cNvSpPr/>
          <p:nvPr/>
        </p:nvSpPr>
        <p:spPr>
          <a:xfrm>
            <a:off x="7721640" y="3178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Box 64"/>
          <p:cNvSpPr/>
          <p:nvPr/>
        </p:nvSpPr>
        <p:spPr>
          <a:xfrm>
            <a:off x="7720920" y="3473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65"/>
          <p:cNvSpPr/>
          <p:nvPr/>
        </p:nvSpPr>
        <p:spPr>
          <a:xfrm>
            <a:off x="7733520" y="22845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66"/>
          <p:cNvSpPr/>
          <p:nvPr/>
        </p:nvSpPr>
        <p:spPr>
          <a:xfrm>
            <a:off x="7733520" y="2017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TextBox 67"/>
          <p:cNvSpPr/>
          <p:nvPr/>
        </p:nvSpPr>
        <p:spPr>
          <a:xfrm>
            <a:off x="7750440" y="1517760"/>
            <a:ext cx="10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0 (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traight Connector 68"/>
          <p:cNvSpPr/>
          <p:nvPr/>
        </p:nvSpPr>
        <p:spPr>
          <a:xfrm flipH="1">
            <a:off x="4431960" y="1087560"/>
            <a:ext cx="336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Box 69"/>
          <p:cNvSpPr/>
          <p:nvPr/>
        </p:nvSpPr>
        <p:spPr>
          <a:xfrm>
            <a:off x="1102320" y="137016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48a54"/>
                </a:solidFill>
                <a:latin typeface="Calibri"/>
              </a:rPr>
              <a:t>EM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4" name="Curved Connector 70"/>
          <p:cNvCxnSpPr/>
          <p:nvPr/>
        </p:nvCxnSpPr>
        <p:spPr>
          <a:xfrm>
            <a:off x="2043000" y="1623600"/>
            <a:ext cx="1463040" cy="74052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85" name="TextBox 71"/>
          <p:cNvSpPr/>
          <p:nvPr/>
        </p:nvSpPr>
        <p:spPr>
          <a:xfrm>
            <a:off x="1194840" y="21304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6" name="Curved Connector 72"/>
          <p:cNvCxnSpPr/>
          <p:nvPr/>
        </p:nvCxnSpPr>
        <p:spPr>
          <a:xfrm>
            <a:off x="1793520" y="2386080"/>
            <a:ext cx="1462680" cy="73872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87" name="TextBox 73"/>
          <p:cNvSpPr/>
          <p:nvPr/>
        </p:nvSpPr>
        <p:spPr>
          <a:xfrm>
            <a:off x="1269360" y="5288040"/>
            <a:ext cx="110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04a7b"/>
                </a:solidFill>
                <a:latin typeface="Calibri"/>
              </a:rPr>
              <a:t>Inn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04a7b"/>
                </a:solidFill>
                <a:latin typeface="Calibri"/>
              </a:rPr>
              <a:t>Trac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8" name="Curved Connector 74"/>
          <p:cNvCxnSpPr/>
          <p:nvPr/>
        </p:nvCxnSpPr>
        <p:spPr>
          <a:xfrm flipV="1">
            <a:off x="2070000" y="3830040"/>
            <a:ext cx="2083680" cy="186588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89" name="Curved Connector 75"/>
          <p:cNvCxnSpPr/>
          <p:nvPr/>
        </p:nvCxnSpPr>
        <p:spPr>
          <a:xfrm rot="10800000">
            <a:off x="5476320" y="3982320"/>
            <a:ext cx="1888200" cy="550080"/>
          </a:xfrm>
          <a:prstGeom prst="curvedConnector5">
            <a:avLst>
              <a:gd name="adj1" fmla="val 50000"/>
              <a:gd name="adj2" fmla="val 49967"/>
              <a:gd name="adj3" fmla="val 50000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0" name="TextBox 76"/>
          <p:cNvSpPr/>
          <p:nvPr/>
        </p:nvSpPr>
        <p:spPr>
          <a:xfrm>
            <a:off x="7347960" y="4054320"/>
            <a:ext cx="120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Ou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ra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1" name="Curved Connector 77"/>
          <p:cNvCxnSpPr/>
          <p:nvPr/>
        </p:nvCxnSpPr>
        <p:spPr>
          <a:xfrm rot="10800000">
            <a:off x="4664880" y="4257720"/>
            <a:ext cx="2348640" cy="131148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2" name="TextBox 78"/>
          <p:cNvSpPr/>
          <p:nvPr/>
        </p:nvSpPr>
        <p:spPr>
          <a:xfrm>
            <a:off x="6938640" y="4970520"/>
            <a:ext cx="152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ck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Box 79"/>
          <p:cNvSpPr/>
          <p:nvPr/>
        </p:nvSpPr>
        <p:spPr>
          <a:xfrm>
            <a:off x="7733160" y="87948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 (old ide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4" name="Curved Connector 80"/>
          <p:cNvCxnSpPr/>
          <p:nvPr/>
        </p:nvCxnSpPr>
        <p:spPr>
          <a:xfrm>
            <a:off x="2133360" y="1074240"/>
            <a:ext cx="1462680" cy="73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95" name="TextBox 81"/>
          <p:cNvSpPr/>
          <p:nvPr/>
        </p:nvSpPr>
        <p:spPr>
          <a:xfrm>
            <a:off x="972720" y="8431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Mag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Oval 82"/>
          <p:cNvSpPr/>
          <p:nvPr/>
        </p:nvSpPr>
        <p:spPr>
          <a:xfrm>
            <a:off x="1851120" y="1087560"/>
            <a:ext cx="5162400" cy="5160960"/>
          </a:xfrm>
          <a:prstGeom prst="ellips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Picture 34" descr="ephenixmockup.png"/>
          <p:cNvPicPr/>
          <p:nvPr/>
        </p:nvPicPr>
        <p:blipFill>
          <a:blip r:embed="rId3"/>
          <a:stretch/>
        </p:blipFill>
        <p:spPr>
          <a:xfrm>
            <a:off x="763560" y="817560"/>
            <a:ext cx="7553520" cy="552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01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Oval 39"/>
          <p:cNvSpPr/>
          <p:nvPr/>
        </p:nvSpPr>
        <p:spPr>
          <a:xfrm>
            <a:off x="2104920" y="1344600"/>
            <a:ext cx="4656240" cy="4654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o the Onion Diagram:  Try 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Footer Placeholder 3"/>
          <p:cNvSpPr/>
          <p:nvPr/>
        </p:nvSpPr>
        <p:spPr>
          <a:xfrm>
            <a:off x="8053560" y="67215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255B4-1CBB-4967-A80A-AD50F2FBE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Oval 5"/>
          <p:cNvSpPr/>
          <p:nvPr/>
        </p:nvSpPr>
        <p:spPr>
          <a:xfrm>
            <a:off x="1851120" y="1087560"/>
            <a:ext cx="5162400" cy="5160960"/>
          </a:xfrm>
          <a:prstGeom prst="ellipse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Oval 6"/>
          <p:cNvSpPr/>
          <p:nvPr/>
        </p:nvSpPr>
        <p:spPr>
          <a:xfrm>
            <a:off x="2525760" y="1751040"/>
            <a:ext cx="3814560" cy="3814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Oval 7"/>
          <p:cNvSpPr/>
          <p:nvPr/>
        </p:nvSpPr>
        <p:spPr>
          <a:xfrm>
            <a:off x="2936880" y="2190600"/>
            <a:ext cx="2963880" cy="2963880"/>
          </a:xfrm>
          <a:prstGeom prst="ellipse">
            <a:avLst/>
          </a:prstGeom>
          <a:solidFill>
            <a:srgbClr val="8eb4e3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Dodecagon 9"/>
          <p:cNvSpPr/>
          <p:nvPr/>
        </p:nvSpPr>
        <p:spPr>
          <a:xfrm rot="20688000">
            <a:off x="3325320" y="2550600"/>
            <a:ext cx="2190960" cy="2233800"/>
          </a:xfrm>
          <a:custGeom>
            <a:avLst/>
            <a:gdLst/>
            <a:ahLst/>
            <a:rect l="l" t="t" r="r" b="b"/>
            <a:pathLst>
              <a:path w="2190598" h="2233706">
                <a:moveTo>
                  <a:pt x="0" y="817578"/>
                </a:moveTo>
                <a:lnTo>
                  <a:pt x="293500" y="299275"/>
                </a:lnTo>
                <a:lnTo>
                  <a:pt x="801799" y="0"/>
                </a:lnTo>
                <a:lnTo>
                  <a:pt x="1388799" y="0"/>
                </a:lnTo>
                <a:lnTo>
                  <a:pt x="1897098" y="299275"/>
                </a:lnTo>
                <a:lnTo>
                  <a:pt x="2190598" y="817578"/>
                </a:lnTo>
                <a:lnTo>
                  <a:pt x="2190598" y="1416128"/>
                </a:lnTo>
                <a:lnTo>
                  <a:pt x="1897098" y="1934431"/>
                </a:lnTo>
                <a:lnTo>
                  <a:pt x="1388799" y="2233706"/>
                </a:lnTo>
                <a:lnTo>
                  <a:pt x="801799" y="2233706"/>
                </a:lnTo>
                <a:lnTo>
                  <a:pt x="293500" y="1934431"/>
                </a:lnTo>
                <a:lnTo>
                  <a:pt x="0" y="1416128"/>
                </a:lnTo>
                <a:lnTo>
                  <a:pt x="0" y="817578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f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Dodecagon 10"/>
          <p:cNvSpPr/>
          <p:nvPr/>
        </p:nvSpPr>
        <p:spPr>
          <a:xfrm>
            <a:off x="4152960" y="3397320"/>
            <a:ext cx="538200" cy="538200"/>
          </a:xfrm>
          <a:custGeom>
            <a:avLst/>
            <a:gdLst/>
            <a:ahLst/>
            <a:rect l="l" t="t" r="r" b="b"/>
            <a:pathLst>
              <a:path w="536919" h="536879">
                <a:moveTo>
                  <a:pt x="0" y="196508"/>
                </a:moveTo>
                <a:lnTo>
                  <a:pt x="71937" y="71932"/>
                </a:lnTo>
                <a:lnTo>
                  <a:pt x="196522" y="0"/>
                </a:lnTo>
                <a:lnTo>
                  <a:pt x="340397" y="0"/>
                </a:lnTo>
                <a:lnTo>
                  <a:pt x="464982" y="71932"/>
                </a:lnTo>
                <a:lnTo>
                  <a:pt x="536919" y="196508"/>
                </a:lnTo>
                <a:lnTo>
                  <a:pt x="536919" y="340371"/>
                </a:lnTo>
                <a:lnTo>
                  <a:pt x="464982" y="464947"/>
                </a:lnTo>
                <a:lnTo>
                  <a:pt x="340397" y="536879"/>
                </a:lnTo>
                <a:lnTo>
                  <a:pt x="196522" y="536879"/>
                </a:lnTo>
                <a:lnTo>
                  <a:pt x="71937" y="464947"/>
                </a:lnTo>
                <a:lnTo>
                  <a:pt x="0" y="340371"/>
                </a:lnTo>
                <a:lnTo>
                  <a:pt x="0" y="196508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Dodecagon 11"/>
          <p:cNvSpPr/>
          <p:nvPr/>
        </p:nvSpPr>
        <p:spPr>
          <a:xfrm>
            <a:off x="4246560" y="3489480"/>
            <a:ext cx="353880" cy="353880"/>
          </a:xfrm>
          <a:custGeom>
            <a:avLst/>
            <a:gdLst/>
            <a:ahLst/>
            <a:rect l="l" t="t" r="r" b="b"/>
            <a:pathLst>
              <a:path w="354367" h="354340">
                <a:moveTo>
                  <a:pt x="0" y="129695"/>
                </a:moveTo>
                <a:lnTo>
                  <a:pt x="47479" y="47475"/>
                </a:lnTo>
                <a:lnTo>
                  <a:pt x="129705" y="0"/>
                </a:lnTo>
                <a:lnTo>
                  <a:pt x="224662" y="0"/>
                </a:lnTo>
                <a:lnTo>
                  <a:pt x="306888" y="47475"/>
                </a:lnTo>
                <a:lnTo>
                  <a:pt x="354367" y="129695"/>
                </a:lnTo>
                <a:lnTo>
                  <a:pt x="354367" y="224645"/>
                </a:lnTo>
                <a:lnTo>
                  <a:pt x="306888" y="306865"/>
                </a:lnTo>
                <a:lnTo>
                  <a:pt x="224662" y="354340"/>
                </a:lnTo>
                <a:lnTo>
                  <a:pt x="129705" y="354340"/>
                </a:lnTo>
                <a:lnTo>
                  <a:pt x="47479" y="306865"/>
                </a:lnTo>
                <a:lnTo>
                  <a:pt x="0" y="224645"/>
                </a:lnTo>
                <a:lnTo>
                  <a:pt x="0" y="129695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Dodecagon 12"/>
          <p:cNvSpPr/>
          <p:nvPr/>
        </p:nvSpPr>
        <p:spPr>
          <a:xfrm>
            <a:off x="4330800" y="3576600"/>
            <a:ext cx="177840" cy="176400"/>
          </a:xfrm>
          <a:custGeom>
            <a:avLst/>
            <a:gdLst/>
            <a:ahLst/>
            <a:rect l="l" t="t" r="r" b="b"/>
            <a:pathLst>
              <a:path w="177180" h="177170">
                <a:moveTo>
                  <a:pt x="0" y="64848"/>
                </a:moveTo>
                <a:lnTo>
                  <a:pt x="23739" y="23737"/>
                </a:lnTo>
                <a:lnTo>
                  <a:pt x="64851" y="0"/>
                </a:lnTo>
                <a:lnTo>
                  <a:pt x="112329" y="0"/>
                </a:lnTo>
                <a:lnTo>
                  <a:pt x="153441" y="23737"/>
                </a:lnTo>
                <a:lnTo>
                  <a:pt x="177180" y="64848"/>
                </a:lnTo>
                <a:lnTo>
                  <a:pt x="177180" y="112322"/>
                </a:lnTo>
                <a:lnTo>
                  <a:pt x="153441" y="153433"/>
                </a:lnTo>
                <a:lnTo>
                  <a:pt x="112329" y="177170"/>
                </a:lnTo>
                <a:lnTo>
                  <a:pt x="64851" y="177170"/>
                </a:lnTo>
                <a:lnTo>
                  <a:pt x="23739" y="153433"/>
                </a:lnTo>
                <a:lnTo>
                  <a:pt x="0" y="112322"/>
                </a:lnTo>
                <a:lnTo>
                  <a:pt x="0" y="64848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604a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23"/>
          <p:cNvSpPr/>
          <p:nvPr/>
        </p:nvSpPr>
        <p:spPr>
          <a:xfrm>
            <a:off x="7514280" y="123048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 [cm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traight Connector 15"/>
          <p:cNvSpPr/>
          <p:nvPr/>
        </p:nvSpPr>
        <p:spPr>
          <a:xfrm flipH="1">
            <a:off x="4431960" y="3672000"/>
            <a:ext cx="336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traight Connector 17"/>
          <p:cNvSpPr/>
          <p:nvPr/>
        </p:nvSpPr>
        <p:spPr>
          <a:xfrm flipH="1">
            <a:off x="4431960" y="3392640"/>
            <a:ext cx="336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Straight Connector 18"/>
          <p:cNvSpPr/>
          <p:nvPr/>
        </p:nvSpPr>
        <p:spPr>
          <a:xfrm flipH="1">
            <a:off x="4431960" y="2492280"/>
            <a:ext cx="336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traight Connector 19"/>
          <p:cNvSpPr/>
          <p:nvPr/>
        </p:nvSpPr>
        <p:spPr>
          <a:xfrm flipH="1">
            <a:off x="4431960" y="2212920"/>
            <a:ext cx="336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traight Connector 20"/>
          <p:cNvSpPr/>
          <p:nvPr/>
        </p:nvSpPr>
        <p:spPr>
          <a:xfrm flipH="1">
            <a:off x="4446360" y="1736640"/>
            <a:ext cx="336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TextBox 21"/>
          <p:cNvSpPr/>
          <p:nvPr/>
        </p:nvSpPr>
        <p:spPr>
          <a:xfrm>
            <a:off x="7721640" y="317808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TextBox 22"/>
          <p:cNvSpPr/>
          <p:nvPr/>
        </p:nvSpPr>
        <p:spPr>
          <a:xfrm>
            <a:off x="7720920" y="34732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TextBox 24"/>
          <p:cNvSpPr/>
          <p:nvPr/>
        </p:nvSpPr>
        <p:spPr>
          <a:xfrm>
            <a:off x="7733520" y="228456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Box 25"/>
          <p:cNvSpPr/>
          <p:nvPr/>
        </p:nvSpPr>
        <p:spPr>
          <a:xfrm>
            <a:off x="7733520" y="20178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TextBox 26"/>
          <p:cNvSpPr/>
          <p:nvPr/>
        </p:nvSpPr>
        <p:spPr>
          <a:xfrm>
            <a:off x="7750440" y="1517760"/>
            <a:ext cx="10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0 (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ne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traight Connector 33"/>
          <p:cNvSpPr/>
          <p:nvPr/>
        </p:nvSpPr>
        <p:spPr>
          <a:xfrm flipH="1">
            <a:off x="4431960" y="1087560"/>
            <a:ext cx="3368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Box 38"/>
          <p:cNvSpPr/>
          <p:nvPr/>
        </p:nvSpPr>
        <p:spPr>
          <a:xfrm>
            <a:off x="1102320" y="137016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948a54"/>
                </a:solidFill>
                <a:latin typeface="Calibri"/>
              </a:rPr>
              <a:t>EM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2" name="Curved Connector 40"/>
          <p:cNvCxnSpPr/>
          <p:nvPr/>
        </p:nvCxnSpPr>
        <p:spPr>
          <a:xfrm>
            <a:off x="2043000" y="1623600"/>
            <a:ext cx="1463040" cy="74052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23" name="TextBox 44"/>
          <p:cNvSpPr/>
          <p:nvPr/>
        </p:nvSpPr>
        <p:spPr>
          <a:xfrm>
            <a:off x="1194840" y="2130480"/>
            <a:ext cx="6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PI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4" name="Curved Connector 45"/>
          <p:cNvCxnSpPr/>
          <p:nvPr/>
        </p:nvCxnSpPr>
        <p:spPr>
          <a:xfrm>
            <a:off x="1793520" y="2386080"/>
            <a:ext cx="1462680" cy="73872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25" name="TextBox 46"/>
          <p:cNvSpPr/>
          <p:nvPr/>
        </p:nvSpPr>
        <p:spPr>
          <a:xfrm>
            <a:off x="1269360" y="5288040"/>
            <a:ext cx="110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04a7b"/>
                </a:solidFill>
                <a:latin typeface="Calibri"/>
              </a:rPr>
              <a:t>Inn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604a7b"/>
                </a:solidFill>
                <a:latin typeface="Calibri"/>
              </a:rPr>
              <a:t>Track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6" name="Curved Connector 47"/>
          <p:cNvCxnSpPr/>
          <p:nvPr/>
        </p:nvCxnSpPr>
        <p:spPr>
          <a:xfrm flipV="1">
            <a:off x="2070000" y="3830040"/>
            <a:ext cx="2083680" cy="1865880"/>
          </a:xfrm>
          <a:prstGeom prst="curvedConnector5">
            <a:avLst>
              <a:gd name="adj1" fmla="val 49991"/>
              <a:gd name="adj2" fmla="val 50000"/>
              <a:gd name="adj3" fmla="val 49991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27" name="Curved Connector 49"/>
          <p:cNvCxnSpPr/>
          <p:nvPr/>
        </p:nvCxnSpPr>
        <p:spPr>
          <a:xfrm rot="10800000">
            <a:off x="5476320" y="3982320"/>
            <a:ext cx="1888200" cy="550080"/>
          </a:xfrm>
          <a:prstGeom prst="curvedConnector5">
            <a:avLst>
              <a:gd name="adj1" fmla="val 50000"/>
              <a:gd name="adj2" fmla="val 49967"/>
              <a:gd name="adj3" fmla="val 50000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28" name="TextBox 52"/>
          <p:cNvSpPr/>
          <p:nvPr/>
        </p:nvSpPr>
        <p:spPr>
          <a:xfrm>
            <a:off x="7347960" y="4054320"/>
            <a:ext cx="120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Oute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rac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29" name="Curved Connector 54"/>
          <p:cNvCxnSpPr/>
          <p:nvPr/>
        </p:nvCxnSpPr>
        <p:spPr>
          <a:xfrm rot="10800000">
            <a:off x="4664880" y="4257720"/>
            <a:ext cx="2348640" cy="1311480"/>
          </a:xfrm>
          <a:prstGeom prst="curvedConnector5">
            <a:avLst>
              <a:gd name="adj1" fmla="val 49992"/>
              <a:gd name="adj2" fmla="val 50000"/>
              <a:gd name="adj3" fmla="val 49992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0" name="TextBox 56"/>
          <p:cNvSpPr/>
          <p:nvPr/>
        </p:nvSpPr>
        <p:spPr>
          <a:xfrm>
            <a:off x="6938640" y="4970520"/>
            <a:ext cx="152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ck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TextBox 2"/>
          <p:cNvSpPr/>
          <p:nvPr/>
        </p:nvSpPr>
        <p:spPr>
          <a:xfrm>
            <a:off x="7733160" y="87948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 (old ide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2" name="Curved Connector 41"/>
          <p:cNvCxnSpPr/>
          <p:nvPr/>
        </p:nvCxnSpPr>
        <p:spPr>
          <a:xfrm>
            <a:off x="2133360" y="1074240"/>
            <a:ext cx="1462680" cy="73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3" name="TextBox 42"/>
          <p:cNvSpPr/>
          <p:nvPr/>
        </p:nvSpPr>
        <p:spPr>
          <a:xfrm>
            <a:off x="972720" y="8431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Mag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Left-Right Arrow 14"/>
          <p:cNvSpPr/>
          <p:nvPr/>
        </p:nvSpPr>
        <p:spPr>
          <a:xfrm>
            <a:off x="1851120" y="3556080"/>
            <a:ext cx="674640" cy="196920"/>
          </a:xfrm>
          <a:prstGeom prst="leftRightArrow">
            <a:avLst>
              <a:gd name="adj1" fmla="val 50000"/>
              <a:gd name="adj2" fmla="val 50136"/>
            </a:avLst>
          </a:prstGeom>
          <a:solidFill>
            <a:srgbClr val="25ec3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27"/>
          <p:cNvSpPr/>
          <p:nvPr/>
        </p:nvSpPr>
        <p:spPr>
          <a:xfrm>
            <a:off x="442800" y="3327480"/>
            <a:ext cx="1025640" cy="642600"/>
          </a:xfrm>
          <a:prstGeom prst="rect">
            <a:avLst/>
          </a:prstGeom>
          <a:solidFill>
            <a:srgbClr val="25ec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duced by 30c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457200" y="1163160"/>
            <a:ext cx="8229600" cy="51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understanding both the transverse and helicity structure of the proton, ePHENIX needs PID capabil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y high momentum hadrons go into central barr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ximum hadron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rom Kinematics, want PID up to 4 G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 moderate loss of reach at high x and Q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n get PID p≈&lt;3.5-4 GeV with a DIR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7-10 cm space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 EMCal inside magnet, 90cm magnet could wo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ed to understand impact of EMCal outside vs inside magn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Study by Yakov Kulinich (SBU) underwa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F182D8-2ADC-44DD-B955-0364C98F2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ooter Placeholder 4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0" name="Picture 5" descr="kin.png"/>
          <p:cNvPicPr/>
          <p:nvPr/>
        </p:nvPicPr>
        <p:blipFill>
          <a:blip r:embed="rId1"/>
          <a:stretch/>
        </p:blipFill>
        <p:spPr>
          <a:xfrm>
            <a:off x="3147840" y="2771640"/>
            <a:ext cx="2057400" cy="6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elicity Struct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457200" y="4905000"/>
            <a:ext cx="8229600" cy="12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rrently, only information on sea quarks is from SID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to low Q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HIC W program will give info on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ū and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đ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D51D7F-E727-4FA9-993C-C5A8E1D59A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Object 5"/>
              <p:cNvSpPr txBox="1"/>
              <p:nvPr/>
            </p:nvSpPr>
            <p:spPr>
              <a:xfrm>
                <a:off x="1509840" y="727200"/>
                <a:ext cx="6146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ΔΣ</m:t>
                    </m:r>
                    <m:r>
                      <m:t xml:space="preserve">+</m:t>
                    </m:r>
                    <m:r>
                      <m:t xml:space="preserve">ΔG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91" name="Group 18"/>
          <p:cNvGrpSpPr/>
          <p:nvPr/>
        </p:nvGrpSpPr>
        <p:grpSpPr>
          <a:xfrm>
            <a:off x="401760" y="982800"/>
            <a:ext cx="4181400" cy="3922560"/>
            <a:chOff x="401760" y="982800"/>
            <a:chExt cx="4181400" cy="3922560"/>
          </a:xfrm>
        </p:grpSpPr>
        <mc:AlternateContent>
          <mc:Choice xmlns:a14="http://schemas.microsoft.com/office/drawing/2010/main" Requires="a14">
            <p:sp>
              <p:nvSpPr>
                <p:cNvPr id="592" name="Object 7"/>
                <p:cNvSpPr txBox="1"/>
                <p:nvPr/>
              </p:nvSpPr>
              <p:spPr>
                <a:xfrm>
                  <a:off x="442080" y="2254320"/>
                  <a:ext cx="3145680" cy="1572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ΔΣ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q</m:t>
                              </m:r>
                              <m:r>
                                <m:t xml:space="preserve">,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q</m:t>
                                  </m:r>
                                </m:e>
                              </m:acc>
                            </m:sub>
                            <m:sup/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x</m:t>
                                  </m:r>
                                  <m:r>
                                    <m:t xml:space="preserve">Δq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)</m:t>
                                  </m:r>
                                </m:e>
                              </m:nary>
                            </m:e>
                          </m:nary>
                        </m:e>
                        <m:e>
                          <m:sSup>
                            <m:e/>
                            <m:sup/>
                          </m:sSup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q</m:t>
                              </m:r>
                              <m:r>
                                <m:t xml:space="preserve">,</m:t>
                              </m:r>
                              <m:acc>
                                <m:accPr>
                                  <m:chr m:val="¯"/>
                                </m:accPr>
                                <m:e>
                                  <m:r>
                                    <m:t xml:space="preserve">q</m:t>
                                  </m:r>
                                </m:e>
                              </m:acc>
                            </m:sub>
                            <m:sup/>
                            <m:e>
                              <m:nary>
                                <m:naryPr>
                                  <m:chr m:val="∫"/>
                                </m:naryPr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1</m:t>
                                  </m:r>
                                </m: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x</m:t>
                                  </m:r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sSup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p>
                                          <m:r>
                                            <m:t xml:space="preserve">+</m:t>
                                          </m:r>
                                        </m:sup>
                                      </m:sSup>
                                      <m:r>
                                        <m:t xml:space="preserve">(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−</m:t>
                                      </m:r>
                                      <m:sSup>
                                        <m:e>
                                          <m:r>
                                            <m:t xml:space="preserve">q</m:t>
                                          </m:r>
                                        </m:e>
                                        <m:sup>
                                          <m:r>
                                            <m:t xml:space="preserve">−</m:t>
                                          </m:r>
                                        </m:sup>
                                      </m:sSup>
                                      <m:r>
                                        <m:t xml:space="preserve">(</m:t>
                                      </m:r>
                                      <m:r>
                                        <m:t xml:space="preserve">x</m:t>
                                      </m:r>
                                      <m:r>
                                        <m:t xml:space="preserve">)</m:t>
                                      </m:r>
                                    </m:e>
                                  </m:d>
                                </m:e>
                              </m:nary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593" name="TextBox 8"/>
            <p:cNvSpPr/>
            <p:nvPr/>
          </p:nvSpPr>
          <p:spPr>
            <a:xfrm>
              <a:off x="434880" y="3769200"/>
              <a:ext cx="3230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From polarized DIS,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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is well measured.  Global fits find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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Symbol"/>
                </a:rPr>
                <a:t>0.25-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0.35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Rectangle 9"/>
            <p:cNvSpPr/>
            <p:nvPr/>
          </p:nvSpPr>
          <p:spPr>
            <a:xfrm>
              <a:off x="401760" y="2287800"/>
              <a:ext cx="3219480" cy="261756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Oval 10"/>
            <p:cNvSpPr/>
            <p:nvPr/>
          </p:nvSpPr>
          <p:spPr>
            <a:xfrm>
              <a:off x="3821760" y="982800"/>
              <a:ext cx="761400" cy="67932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96" name="Straight Arrow Connector 11"/>
            <p:cNvCxnSpPr>
              <a:stCxn id="595" idx="4"/>
            </p:cNvCxnSpPr>
            <p:nvPr/>
          </p:nvCxnSpPr>
          <p:spPr>
            <a:xfrm flipH="1">
              <a:off x="3367440" y="1661760"/>
              <a:ext cx="834840" cy="6447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med" type="arrow" w="med"/>
            </a:ln>
          </p:spPr>
        </p:cxnSp>
      </p:grpSp>
      <p:grpSp>
        <p:nvGrpSpPr>
          <p:cNvPr id="597" name="Group 12"/>
          <p:cNvGrpSpPr/>
          <p:nvPr/>
        </p:nvGrpSpPr>
        <p:grpSpPr>
          <a:xfrm>
            <a:off x="3621240" y="2284560"/>
            <a:ext cx="5246640" cy="2620800"/>
            <a:chOff x="3621240" y="2284560"/>
            <a:chExt cx="5246640" cy="2620800"/>
          </a:xfrm>
        </p:grpSpPr>
        <p:sp>
          <p:nvSpPr>
            <p:cNvPr id="598" name="Rectangle 13"/>
            <p:cNvSpPr/>
            <p:nvPr/>
          </p:nvSpPr>
          <p:spPr>
            <a:xfrm>
              <a:off x="3621240" y="2284560"/>
              <a:ext cx="5202360" cy="26208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TextBox 14"/>
            <p:cNvSpPr/>
            <p:nvPr/>
          </p:nvSpPr>
          <p:spPr>
            <a:xfrm>
              <a:off x="3632040" y="2306520"/>
              <a:ext cx="5235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While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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 is well constrainted from pDIS, 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q for the different quarks are less well know, especially in the case of sea quarks: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0" name="Picture 15" descr="seaquarkdssvplot.png"/>
            <p:cNvPicPr/>
            <p:nvPr/>
          </p:nvPicPr>
          <p:blipFill>
            <a:blip r:embed="rId1"/>
            <a:stretch/>
          </p:blipFill>
          <p:spPr>
            <a:xfrm>
              <a:off x="3821760" y="3306960"/>
              <a:ext cx="4527000" cy="154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to Get Flavor Separated </a:t>
            </a: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main approaches in D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 e+p to e+n (deuteron or He3 targ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e+p) – (e+n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 –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ives information in valence quark region, but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not for sea qua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weak exchange:  Z or 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gging of W exchange, similar to RHIC p+p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+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cess different structure function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n nucle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Requires high luminosity and also large √s (beyond ePHENIX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mi Inclusive DIS (SIDIS):  </a:t>
            </a:r>
            <a:r>
              <a:rPr b="0" lang="en-US" sz="2400" spc="-1" strike="noStrike">
                <a:solidFill>
                  <a:srgbClr val="000000"/>
                </a:solidFill>
                <a:latin typeface="Brush Script MT Italic"/>
                <a:ea typeface="Brush Script MT Italic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+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rush Script MT Italic"/>
                <a:ea typeface="Brush Script MT Italic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Brush Script MT Italic"/>
              </a:rPr>
              <a:t>+h+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g final state identified hadr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ing favored and unfavored Fragmentation Functions, can extract flavor separated sea quark helicity distrib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ed PID to identify Kaons in order to g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B2D339-8AE2-40C3-BF50-D6CAF03613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Rectangle 16"/>
          <p:cNvSpPr/>
          <p:nvPr/>
        </p:nvSpPr>
        <p:spPr>
          <a:xfrm>
            <a:off x="884160" y="4173480"/>
            <a:ext cx="7212240" cy="1919520"/>
          </a:xfrm>
          <a:prstGeom prst="rect">
            <a:avLst/>
          </a:prstGeom>
          <a:noFill/>
          <a:ln w="76320">
            <a:solidFill>
              <a:srgbClr val="25ec3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urrent SIDIS Resul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488049-52E5-42BC-A7FD-BAE90B0A3F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Picture 5" descr="SIDIShelicityAsym.png"/>
          <p:cNvPicPr/>
          <p:nvPr/>
        </p:nvPicPr>
        <p:blipFill>
          <a:blip r:embed="rId1"/>
          <a:stretch/>
        </p:blipFill>
        <p:spPr>
          <a:xfrm>
            <a:off x="233280" y="1246320"/>
            <a:ext cx="4589640" cy="24937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9" descr="seaquarkdssvplot.png"/>
          <p:cNvPicPr/>
          <p:nvPr/>
        </p:nvPicPr>
        <p:blipFill>
          <a:blip r:embed="rId2"/>
          <a:stretch/>
        </p:blipFill>
        <p:spPr>
          <a:xfrm>
            <a:off x="2063880" y="4692600"/>
            <a:ext cx="4529160" cy="15415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0" descr="meatgrinder.jpg"/>
          <p:cNvPicPr/>
          <p:nvPr/>
        </p:nvPicPr>
        <p:blipFill>
          <a:blip r:embed="rId3"/>
          <a:stretch/>
        </p:blipFill>
        <p:spPr>
          <a:xfrm>
            <a:off x="104760" y="3973680"/>
            <a:ext cx="1838520" cy="1838160"/>
          </a:xfrm>
          <a:prstGeom prst="rect">
            <a:avLst/>
          </a:prstGeom>
          <a:ln w="0">
            <a:noFill/>
          </a:ln>
        </p:spPr>
      </p:pic>
      <p:sp>
        <p:nvSpPr>
          <p:cNvPr id="612" name="Down Arrow 11"/>
          <p:cNvSpPr/>
          <p:nvPr/>
        </p:nvSpPr>
        <p:spPr>
          <a:xfrm rot="16200000">
            <a:off x="1650240" y="5137560"/>
            <a:ext cx="571320" cy="48420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Notched Right Arrow 12"/>
          <p:cNvSpPr/>
          <p:nvPr/>
        </p:nvSpPr>
        <p:spPr>
          <a:xfrm rot="6349800">
            <a:off x="757080" y="3176280"/>
            <a:ext cx="955800" cy="781200"/>
          </a:xfrm>
          <a:custGeom>
            <a:avLst/>
            <a:gdLst>
              <a:gd name="textAreaLeft" fmla="*/ 195120 w 955800"/>
              <a:gd name="textAreaRight" fmla="*/ 760680 w 955800"/>
              <a:gd name="textAreaTop" fmla="*/ 195120 h 781200"/>
              <a:gd name="textAreaBottom" fmla="*/ 586080 h 781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2777" y="5400"/>
                </a:lnTo>
                <a:lnTo>
                  <a:pt x="12777" y="0"/>
                </a:lnTo>
                <a:lnTo>
                  <a:pt x="21600" y="10800"/>
                </a:lnTo>
                <a:lnTo>
                  <a:pt x="12777" y="21600"/>
                </a:lnTo>
                <a:lnTo>
                  <a:pt x="12777" y="16200"/>
                </a:lnTo>
                <a:lnTo>
                  <a:pt x="0" y="16200"/>
                </a:lnTo>
                <a:lnTo>
                  <a:pt x="441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985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Picture 15" descr="seaquarkdssvplot.png"/>
          <p:cNvPicPr/>
          <p:nvPr/>
        </p:nvPicPr>
        <p:blipFill>
          <a:blip r:embed="rId4"/>
          <a:srcRect l="67879" t="0" r="0" b="0"/>
          <a:stretch/>
        </p:blipFill>
        <p:spPr>
          <a:xfrm>
            <a:off x="2435400" y="3784680"/>
            <a:ext cx="2388960" cy="2530440"/>
          </a:xfrm>
          <a:prstGeom prst="rect">
            <a:avLst/>
          </a:prstGeom>
          <a:ln w="0">
            <a:noFill/>
          </a:ln>
        </p:spPr>
      </p:pic>
      <p:sp>
        <p:nvSpPr>
          <p:cNvPr id="615" name="Oval 13"/>
          <p:cNvSpPr/>
          <p:nvPr/>
        </p:nvSpPr>
        <p:spPr>
          <a:xfrm>
            <a:off x="2438280" y="4287960"/>
            <a:ext cx="824040" cy="1377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928760" y="961560"/>
            <a:ext cx="386892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urrent SIDIS measurements from HERMES and COMPAS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mited x and Q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ran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arge amount of uncertainty remai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lusion of SIDIS data unique accesse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certainty at low x is larger than show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t constraint forces small uncertainty at low 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n understand at ePHEN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Curved Right Arrow 6"/>
          <p:cNvSpPr/>
          <p:nvPr/>
        </p:nvSpPr>
        <p:spPr>
          <a:xfrm rot="10800000">
            <a:off x="4354200" y="4692240"/>
            <a:ext cx="306360" cy="477720"/>
          </a:xfrm>
          <a:custGeom>
            <a:avLst/>
            <a:gdLst>
              <a:gd name="textAreaLeft" fmla="*/ 41040 w 306360"/>
              <a:gd name="textAreaRight" fmla="*/ 265320 w 306360"/>
              <a:gd name="textAreaTop" fmla="*/ 91800 h 477720"/>
              <a:gd name="textAreaBottom" fmla="*/ 342720 h 47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19" stAng="-5400000" swAng="-5400000"/>
                <a:lnTo>
                  <a:pt x="0" y="11330"/>
                </a:lnTo>
                <a:arcTo wR="21600" hR="8319" stAng="10800000" swAng="-2073159"/>
                <a:lnTo>
                  <a:pt x="11057" y="20542"/>
                </a:lnTo>
                <a:lnTo>
                  <a:pt x="21600" y="18143"/>
                </a:lnTo>
                <a:lnTo>
                  <a:pt x="11057" y="13627"/>
                </a:lnTo>
                <a:lnTo>
                  <a:pt x="11057" y="15579"/>
                </a:lnTo>
                <a:arcTo wR="21600" hR="8319" stAng="8726841" swAng="1829935"/>
                <a:lnTo>
                  <a:pt x="357" y="9824"/>
                </a:lnTo>
                <a:arcTo wR="21600" hR="8319" stAng="-10556776" swAng="5156776"/>
                <a:close/>
              </a:path>
              <a:path fill="darkenLess" w="21600" h="21600">
                <a:moveTo>
                  <a:pt x="21600" y="0"/>
                </a:moveTo>
                <a:arcTo wR="21600" hR="8319" stAng="-5400000" swAng="-5400000"/>
                <a:lnTo>
                  <a:pt x="0" y="8319"/>
                </a:lnTo>
                <a:arcTo wR="21600" hR="8319" stAng="10800000" swAng="-243224"/>
                <a:lnTo>
                  <a:pt x="357" y="9824"/>
                </a:lnTo>
                <a:arcTo wR="21600" hR="8319" stAng="-10556776" swAng="5156776"/>
                <a:close/>
              </a:path>
            </a:pathLst>
          </a:custGeom>
          <a:solidFill>
            <a:srgbClr val="25ec3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6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6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Transverse Spi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457200" y="1163160"/>
            <a:ext cx="247824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verse momentum distributions (TMDs) require final state hadron (SIDI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nt PID to understand quark separated 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nt large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moderate x to look at scaling of TM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00547-CBC1-4D37-9BC2-752E48C1A4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1" name="Picture 4" descr="siversdata.png"/>
          <p:cNvPicPr/>
          <p:nvPr/>
        </p:nvPicPr>
        <p:blipFill>
          <a:blip r:embed="rId1"/>
          <a:stretch/>
        </p:blipFill>
        <p:spPr>
          <a:xfrm>
            <a:off x="3611520" y="1700280"/>
            <a:ext cx="4433760" cy="3459240"/>
          </a:xfrm>
          <a:prstGeom prst="rect">
            <a:avLst/>
          </a:prstGeom>
          <a:ln w="0">
            <a:noFill/>
          </a:ln>
        </p:spPr>
      </p:pic>
      <p:sp>
        <p:nvSpPr>
          <p:cNvPr id="622" name="Footer Placeholder 5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25ec35"/>
              </a:gs>
            </a:gsLst>
            <a:lin ang="0"/>
          </a:gra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KINEMATIC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625" name="Footer Placeholder 3"/>
          <p:cNvSpPr/>
          <p:nvPr/>
        </p:nvSpPr>
        <p:spPr>
          <a:xfrm>
            <a:off x="3008160" y="6356520"/>
            <a:ext cx="314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91CBF5-3FAE-4CFC-B9A6-1B4B8FFBF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ariables of interes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961560"/>
            <a:ext cx="82296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ordinate system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Symbol"/>
              </a:rPr>
              <a:t>= 0 is proton going dir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= 2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’(1 – cos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mentum transf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√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 = √(4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x = Q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(2P•q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action momentum of proton carried by struck qua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z = P•p/P•q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action momentum of struck quark carried by hadr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enter of mas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= √s/2,  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= √s/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’ ≤ 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’ ≤ √s/2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’ ≤ √s/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h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~√s/2 * √x * z = z*√(xE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p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0" lang="en-US" sz="2200" spc="-1" strike="noStrike" baseline="-25000">
                <a:solidFill>
                  <a:srgbClr val="ff0000"/>
                </a:solidFill>
                <a:latin typeface="Calibri"/>
              </a:rPr>
              <a:t>e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Footer Placeholder 3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E183F-E05C-474D-A477-46101C2C9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Right Arrow 5"/>
          <p:cNvSpPr/>
          <p:nvPr/>
        </p:nvSpPr>
        <p:spPr>
          <a:xfrm>
            <a:off x="6553080" y="1887480"/>
            <a:ext cx="827280" cy="147600"/>
          </a:xfrm>
          <a:prstGeom prst="rightArrow">
            <a:avLst>
              <a:gd name="adj1" fmla="val 50000"/>
              <a:gd name="adj2" fmla="val 49899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Right Arrow 6"/>
          <p:cNvSpPr/>
          <p:nvPr/>
        </p:nvSpPr>
        <p:spPr>
          <a:xfrm flipH="1">
            <a:off x="7465320" y="1887480"/>
            <a:ext cx="826920" cy="147600"/>
          </a:xfrm>
          <a:prstGeom prst="rightArrow">
            <a:avLst>
              <a:gd name="adj1" fmla="val 50000"/>
              <a:gd name="adj2" fmla="val 4987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Right Arrow 7"/>
          <p:cNvSpPr/>
          <p:nvPr/>
        </p:nvSpPr>
        <p:spPr>
          <a:xfrm flipH="1" rot="7571400">
            <a:off x="7246800" y="1457640"/>
            <a:ext cx="828720" cy="147960"/>
          </a:xfrm>
          <a:prstGeom prst="rightArrow">
            <a:avLst>
              <a:gd name="adj1" fmla="val 50000"/>
              <a:gd name="adj2" fmla="val 49864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217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7360" bIns="27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8"/>
          <p:cNvSpPr/>
          <p:nvPr/>
        </p:nvSpPr>
        <p:spPr>
          <a:xfrm>
            <a:off x="6212520" y="175428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9"/>
          <p:cNvSpPr/>
          <p:nvPr/>
        </p:nvSpPr>
        <p:spPr>
          <a:xfrm>
            <a:off x="8295480" y="17431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11"/>
          <p:cNvSpPr/>
          <p:nvPr/>
        </p:nvSpPr>
        <p:spPr>
          <a:xfrm>
            <a:off x="7860960" y="917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'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13"/>
          <p:cNvSpPr/>
          <p:nvPr/>
        </p:nvSpPr>
        <p:spPr>
          <a:xfrm>
            <a:off x="7557480" y="2678040"/>
            <a:ext cx="7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ymbol"/>
              </a:rPr>
              <a:t>, K, 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ight Arrow 14"/>
          <p:cNvSpPr/>
          <p:nvPr/>
        </p:nvSpPr>
        <p:spPr>
          <a:xfrm flipH="1" rot="15712200">
            <a:off x="7067160" y="2356200"/>
            <a:ext cx="827280" cy="146160"/>
          </a:xfrm>
          <a:prstGeom prst="rightArrow">
            <a:avLst>
              <a:gd name="adj1" fmla="val 50000"/>
              <a:gd name="adj2" fmla="val 50391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0314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Arc 16"/>
          <p:cNvSpPr/>
          <p:nvPr/>
        </p:nvSpPr>
        <p:spPr>
          <a:xfrm flipH="1">
            <a:off x="6860520" y="1403280"/>
            <a:ext cx="895320" cy="966960"/>
          </a:xfrm>
          <a:custGeom>
            <a:avLst/>
            <a:gdLst/>
            <a:ahLst/>
            <a:rect l="l" t="t" r="r" b="b"/>
            <a:pathLst>
              <a:path stroke="0" w="895831" h="967516">
                <a:moveTo>
                  <a:pt x="160985" y="112289"/>
                </a:moveTo>
                <a:cubicBezTo>
                  <a:pt x="300711" y="-13602"/>
                  <a:pt x="497068" y="-35689"/>
                  <a:pt x="657815" y="56404"/>
                </a:cubicBezTo>
                <a:cubicBezTo>
                  <a:pt x="804266" y="140307"/>
                  <a:pt x="895833" y="304712"/>
                  <a:pt x="895833" y="483758"/>
                </a:cubicBezTo>
                <a:lnTo>
                  <a:pt x="447916" y="483758"/>
                </a:lnTo>
                <a:lnTo>
                  <a:pt x="160985" y="112289"/>
                </a:lnTo>
                <a:close/>
              </a:path>
              <a:path fill="none" w="895831" h="967516">
                <a:moveTo>
                  <a:pt x="160985" y="112289"/>
                </a:moveTo>
                <a:cubicBezTo>
                  <a:pt x="300711" y="-13602"/>
                  <a:pt x="497068" y="-35689"/>
                  <a:pt x="657815" y="56404"/>
                </a:cubicBezTo>
                <a:cubicBezTo>
                  <a:pt x="804266" y="140307"/>
                  <a:pt x="895833" y="304712"/>
                  <a:pt x="895833" y="483758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17"/>
          <p:cNvSpPr/>
          <p:nvPr/>
        </p:nvSpPr>
        <p:spPr>
          <a:xfrm>
            <a:off x="6861240" y="11239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5" descr="mom_vs_eta.png"/>
          <p:cNvPicPr/>
          <p:nvPr/>
        </p:nvPicPr>
        <p:blipFill>
          <a:blip r:embed="rId1"/>
          <a:stretch/>
        </p:blipFill>
        <p:spPr>
          <a:xfrm>
            <a:off x="1217520" y="955800"/>
            <a:ext cx="6943680" cy="4970160"/>
          </a:xfrm>
          <a:prstGeom prst="rect">
            <a:avLst/>
          </a:prstGeom>
          <a:ln w="0">
            <a:noFill/>
          </a:ln>
        </p:spPr>
      </p:pic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17280"/>
            <a:ext cx="82296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mentum vs </a:t>
            </a:r>
            <a:r>
              <a:rPr b="0" lang="en-US" sz="4400" spc="-1" strike="noStrike">
                <a:solidFill>
                  <a:srgbClr val="ffffff"/>
                </a:solidFill>
                <a:latin typeface="Symbol"/>
                <a:ea typeface="Symbol"/>
              </a:rPr>
              <a:t>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718920" y="3476520"/>
            <a:ext cx="3654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ghest momentum particles go in the hadron beam dir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Less true at 10 GeV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ever, many hadrons end up in midrapidity region (|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|&lt;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many, and at what momentu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46D6CD-1CDE-4435-8209-7668167B0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Box 16"/>
          <p:cNvSpPr/>
          <p:nvPr/>
        </p:nvSpPr>
        <p:spPr>
          <a:xfrm>
            <a:off x="8161200" y="4205160"/>
            <a:ext cx="84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aled up by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17"/>
          <p:cNvSpPr/>
          <p:nvPr/>
        </p:nvSpPr>
        <p:spPr>
          <a:xfrm rot="16200000">
            <a:off x="838440" y="135900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 (GeV/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Box 18"/>
          <p:cNvSpPr/>
          <p:nvPr/>
        </p:nvSpPr>
        <p:spPr>
          <a:xfrm>
            <a:off x="7470360" y="5732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Box 19"/>
          <p:cNvSpPr/>
          <p:nvPr/>
        </p:nvSpPr>
        <p:spPr>
          <a:xfrm>
            <a:off x="7470360" y="3132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Box 20"/>
          <p:cNvSpPr/>
          <p:nvPr/>
        </p:nvSpPr>
        <p:spPr>
          <a:xfrm>
            <a:off x="4063680" y="31320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21"/>
          <p:cNvSpPr/>
          <p:nvPr/>
        </p:nvSpPr>
        <p:spPr>
          <a:xfrm rot="16200000">
            <a:off x="4300920" y="135900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 (GeV/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Box 22"/>
          <p:cNvSpPr/>
          <p:nvPr/>
        </p:nvSpPr>
        <p:spPr>
          <a:xfrm rot="16200000">
            <a:off x="4300920" y="38404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 (GeV/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Footer Placeholder 2"/>
          <p:cNvSpPr/>
          <p:nvPr/>
        </p:nvSpPr>
        <p:spPr>
          <a:xfrm>
            <a:off x="2949480" y="6356520"/>
            <a:ext cx="322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HENIX Collaboration Meeting--March 6, 20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9:29:32Z</dcterms:created>
  <dc:creator>Kieran Boyle</dc:creator>
  <dc:description/>
  <dc:language>en-US</dc:language>
  <cp:lastModifiedBy>Thomas K Hemmick</cp:lastModifiedBy>
  <dcterms:modified xsi:type="dcterms:W3CDTF">2012-03-14T13:55:52Z</dcterms:modified>
  <cp:revision>106</cp:revision>
  <dc:subject/>
  <dc:title>Spin with sPHENIX</dc:title>
</cp:coreProperties>
</file>